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A64-41A1-4AFB-A009-05095B1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BBE-A360-40D4-8736-93D229BA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7AE-044B-42D0-8D72-44F063BD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E0E-CB6C-47CD-AB60-1F635AE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D21-2EAE-4FCD-AF36-FD2EF4E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70F-E9E0-445A-8D63-3D0D8B0F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ADC-2836-418C-999A-CB3605F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4EB-E762-4005-82E5-2149480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D36-0FA9-4974-8C5C-4D4386C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2F1-E049-45F4-855F-D2967C8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210-6BBD-4C85-A8A3-D63BDB2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E94-6206-49A9-9508-672871A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B744-8147-4CA2-A389-B0617870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477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 by Joh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him honest Ab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first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51:49Z</dcterms:created>
  <dc:creator>smuser</dc:creator>
  <dc:description/>
  <dc:language>en-US</dc:language>
  <cp:lastModifiedBy>smuser</cp:lastModifiedBy>
  <dcterms:modified xsi:type="dcterms:W3CDTF">2010-02-04T18:49:39Z</dcterms:modified>
  <cp:revision>3</cp:revision>
  <dc:subject/>
  <dc:title>Comparing Presidents</dc:title>
</cp:coreProperties>
</file>